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511-1416-4C4A-AA0E-4B5F7F55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301-25E9-4954-9DA7-EAA6576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E42-651C-4ACB-9B66-877EA4ED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D8D-6ACF-43FE-A9CB-04DB567D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3FA-1A07-4538-9687-03C766A7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F6D-99E8-4367-ACED-FEF5D3D2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9D5-A45C-4904-BC3C-0160364C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8D1-4E3C-438E-8509-F863BB18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205-156D-4045-A55A-0C0FABBD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C59-156B-4FAA-AFE1-34C21006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894-CF0E-4C91-B48E-192972A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4BA-BA1A-4C53-B60C-F15DA71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D746-AF43-4E73-9D51-CE18C0BE0C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2280"/>
            <a:ext cx="929628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连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时间从句时，通常译为“当…时候”。此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nd t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was working in the garden when I suddenly felt the pain in my stom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Frank was about to leave when he noticed the letter lying on th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e were doing our homework when the light wen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29:47Z</dcterms:created>
  <dc:creator>zhangjunguang</dc:creator>
  <dc:description/>
  <dc:language>en-US</dc:language>
  <cp:lastModifiedBy>zhangjunguang</cp:lastModifiedBy>
  <dcterms:modified xsi:type="dcterms:W3CDTF">2003-08-06T13:39:23Z</dcterms:modified>
  <cp:revision>2</cp:revision>
  <dc:subject/>
  <dc:title>PowerPoint 演示文稿</dc:title>
</cp:coreProperties>
</file>